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11E-15CC-4A1A-AD9D-9A7AE464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53F-F0FB-4B77-90D1-EF0E183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AAF-A5E6-4933-9332-46671479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9F5-5A3C-4565-81B1-471343C2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B432-530D-4314-A8E3-28FC310C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CA07-6C9E-4AAC-9DA4-497321C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9DD8-06FE-450D-A3CC-2934002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66A7-F1A0-4D81-8815-03474CC0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E5AD-A260-4C1D-AC29-BA6AD37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D9AF-01F6-464C-9201-4BE37B9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151-1DCC-455C-9E50-3E1AA8A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723-80EF-4AD5-AC14-303B6B4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041-9379-486A-ACE5-7473E82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16B-8E07-4A78-82EC-979E4172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BD27-20FC-437D-82D2-B4C8ABB6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AC1B-FED9-4DA3-BF27-D5A08840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D028-C043-4637-AAEF-CA8A3BF0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3C2-0D2F-4850-A023-CE4E8DED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285-4680-4D6A-9CDE-D4936FB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904-12ED-4A75-A3D2-A8B2EA6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ED3-4D02-4D81-9CD4-3221B61A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FF1-3E97-4735-870F-967386F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C0D-0D86-41EA-A39E-0976CFAE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79B-C2AB-4932-9D1E-0E4D3B41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2f7d"/>
            </a:gs>
            <a:gs pos="100000">
              <a:srgbClr val="466d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5A8A-4A2D-4F34-84E1-F997705EE584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2f7d"/>
            </a:gs>
            <a:gs pos="100000">
              <a:srgbClr val="466d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c3d69b">
              <a:alpha val="5000"/>
            </a:srgbClr>
          </a:solidFill>
          <a:ln cap="rnd" w="12600">
            <a:solidFill>
              <a:srgbClr val="c3d69b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9874-78EB-413E-8DC5-5F79D46C60FF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1828800" y="544680"/>
            <a:ext cx="5486400" cy="41400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55160" y="4038480"/>
            <a:ext cx="71168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ycles of Mat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ARBO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 take in carbon dioxide gas from the air during PHOTO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carbon from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o make food (sugars &amp; starch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er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at producers and take in the C-containing food molecules and break the food dow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duce &amp; release water &amp;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as wast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mposers break down producers &amp; consumers when they die &amp; return carbon to the so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OXY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 release oxygen as a result of PHOTOSYNTHE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rganisms take in oxygen from the air and use it to carry out lots of processes – ex: CELLULAR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UMAN IMPAC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90360" y="1371240"/>
            <a:ext cx="712476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humans burn oil, coal and other fuels, carbon dioxide is released into the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humans clear forests for lumber, fuel and farmland, carbon dioxide levels also rise. 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the impact of all the carbon dioxide in the atmospher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9800" y="1599840"/>
            <a:ext cx="7124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trogen moves from the air to the soil, into living things and back into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r is 78% nitrogen BUT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: Living organisms cannot use nitrogen ga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lution: NITROGEN FIX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9800" y="1599840"/>
            <a:ext cx="7124400" cy="47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itrogen Fixation = process of changing free nitrogen into a usable form of nitr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ed by certain kinds of bacter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teria live in nodules on the roots of plants – specifically legumes - MUTUAL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umes = clover, beans, peas, alfalfa, peanu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ITROGEN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447920"/>
            <a:ext cx="71244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nitrogen is fixed, producers use it to build proteins &amp; other complex compou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mposers break down nitrogen compounds from dead organisms &amp; animal waste return simple nitrogen compounds to so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cteria break down nitrogen compounds to nitrogen gas that gets released into the a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466560" y="380880"/>
            <a:ext cx="8006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ycling of Ca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66320" y="1066680"/>
            <a:ext cx="7124760" cy="31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uminum, copper, iron recycled from old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has a limited supply of these materi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4038480" y="3338640"/>
            <a:ext cx="449604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arth also Recycle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4475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mited amount of matter in an eco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ust like the limited amount of metal to build c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ter in an ecosystem must be recycle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Cyc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arbon &amp; Oxygen Cycl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itrogen Cyc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09800" y="1599840"/>
            <a:ext cx="7124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inuous process by which water moves from Earth’s surface to the atmosphere and ba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er cycle includ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vapor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dens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cip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VAP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cess by which molecules of liquid water absorb energy and change to a ga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quid water evaporates from oceans, lakes, etc and forms water vapor (a ga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vapor released from leaves on plants (transpiration) and humans when we breat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cess by which a gas changes to a liqui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water vapors rises in the atmosphere, it coo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cooled water vapor turns back into tiny droplets of wat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ater droplets collect around particles of dust, which forms cloud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WATER CYCL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009800" y="1523520"/>
            <a:ext cx="7124400" cy="433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CIP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Examples: rain, snow, sleet, hai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 more water vapor condenses, the drops of water in the clouds grow larg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eavy drops fall back to Earth as precip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ecipitation falls into oceans, lakes, or soaks into soil to become groundwate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1295280" y="473040"/>
            <a:ext cx="63709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RBON &amp; OXYGEN CY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90360" y="1219320"/>
            <a:ext cx="7124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bon &amp; oxygen cycles are linke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eeece1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s, consumers &amp; decomposers all play ro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1143000" y="2754360"/>
            <a:ext cx="65977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2:55:37Z</dcterms:created>
  <dc:creator>Builder</dc:creator>
  <dc:description/>
  <dc:language>en-US</dc:language>
  <cp:lastModifiedBy>Builder</cp:lastModifiedBy>
  <dcterms:modified xsi:type="dcterms:W3CDTF">2013-03-19T17:43:21Z</dcterms:modified>
  <cp:revision>8</cp:revision>
  <dc:subject/>
  <dc:title>Cycles of Matter</dc:title>
</cp:coreProperties>
</file>